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05E6-032B-48C6-9558-4C684EED1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A18-84A2-4074-96C8-77647F21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06F-175D-43F6-81C7-A347920D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B39-09A1-4B2D-A866-828D3324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328-7242-4ADF-A05F-8A166B18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DEE-9120-44C1-82F1-84990713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6D6-D3AA-4099-A6F6-7D6923E4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DB0-569A-49DC-9565-0AC924FC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A7F-153C-4519-AA54-DFBFABED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6C6-8F04-4E88-9912-E5C15742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D8A-63DD-4CA2-9ABD-2227DEEF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15A-57FB-4A26-BDC1-9C583986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06A-34EB-4F88-B22D-93082A75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3BC5-D4F6-4BF2-909D-582790F54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1228680"/>
            <a:ext cx="7848720" cy="562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18156600">
            <a:off x="160920" y="447840"/>
            <a:ext cx="2954520" cy="3276720"/>
          </a:xfrm>
          <a:prstGeom prst="wedgeEllipseCallout">
            <a:avLst>
              <a:gd name="adj1" fmla="val -32296"/>
              <a:gd name="adj2" fmla="val 64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  should not eat 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use we have lives 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have famil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ll came from g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why you should not eat 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21:26:48Z</dcterms:created>
  <dc:creator>Student</dc:creator>
  <dc:description/>
  <dc:language>en-US</dc:language>
  <cp:lastModifiedBy>Student</cp:lastModifiedBy>
  <dcterms:modified xsi:type="dcterms:W3CDTF">2008-11-19T21:32:28Z</dcterms:modified>
  <cp:revision>2</cp:revision>
  <dc:subject/>
  <dc:title>Slide 1</dc:title>
</cp:coreProperties>
</file>